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FA4-87D7-4927-83E8-73CC640D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7D5-F9A7-4FCB-B9C9-A414A5C8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76A-FA14-4773-850B-8CD64781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C99-893C-4721-A54E-2A30BA34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F13-351B-4261-88F3-48BB0DB4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4D7-0120-4B62-8C0B-36C5A695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71D-62BC-46AB-88E5-87C12C0C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1C0-2A04-426D-9AB6-6F532CE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450-54D2-48FA-B185-0C631216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FD-363A-4763-B4A3-871C4D9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0EA-3C06-4F04-9D53-CAA925E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6C7-A9BF-410E-805F-9284D6A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B3EF-E471-4F32-8411-AFF2DCAE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lex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http://t0.gstatic.com/images?q=tbn:ANd9GcScn945d993AW6aFhTw7nwehBwKkBlcIzemtt-92bGnyGf50OIh"/>
          <p:cNvPicPr/>
          <p:nvPr/>
        </p:nvPicPr>
        <p:blipFill>
          <a:blip r:embed="rId1"/>
          <a:stretch/>
        </p:blipFill>
        <p:spPr>
          <a:xfrm>
            <a:off x="685800" y="2112840"/>
            <a:ext cx="7543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y of wisdom and the right way to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0" y="990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0" y="10666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r between Athens and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TXHcylMCaeHAK-5bgu-kSTyFuixZqNnH79g2w64_GMDLd3QJBN"/>
          <p:cNvPicPr/>
          <p:nvPr/>
        </p:nvPicPr>
        <p:blipFill>
          <a:blip r:embed="rId1"/>
          <a:stretch/>
        </p:blipFill>
        <p:spPr>
          <a:xfrm>
            <a:off x="304920" y="1758960"/>
            <a:ext cx="815328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t3.gstatic.com/images?q=tbn:ANd9GcS2fa_NqSEi6ZGC4Nr6yPImHN4JwK2ZA1I3ZnYj3tOXe_j3zOF29w"/>
          <p:cNvPicPr/>
          <p:nvPr/>
        </p:nvPicPr>
        <p:blipFill>
          <a:blip r:embed="rId1"/>
          <a:stretch/>
        </p:blipFill>
        <p:spPr>
          <a:xfrm>
            <a:off x="914400" y="2666880"/>
            <a:ext cx="6858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t2.gstatic.com/images?q=tbn:ANd9GcTAmLk55eRp7JEp0ZO6ONJ0PMp4dSlZWWwA0Ug2Ycane3YQZhcIMQ"/>
          <p:cNvPicPr/>
          <p:nvPr/>
        </p:nvPicPr>
        <p:blipFill>
          <a:blip r:embed="rId1"/>
          <a:stretch/>
        </p:blipFill>
        <p:spPr>
          <a:xfrm>
            <a:off x="304920" y="2219400"/>
            <a:ext cx="75438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t3.gstatic.com/images?q=tbn:ANd9GcRDhuQr2p1wirNFaBIkSYLLJhodcZGIrDXytLwpjK1f2MClNmlj"/>
          <p:cNvPicPr/>
          <p:nvPr/>
        </p:nvPicPr>
        <p:blipFill>
          <a:blip r:embed="rId1"/>
          <a:stretch/>
        </p:blipFill>
        <p:spPr>
          <a:xfrm>
            <a:off x="380880" y="2243160"/>
            <a:ext cx="76964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304920" y="2438280"/>
            <a:ext cx="739116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ear evidence and make decision in a court of la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1.gstatic.com/images?q=tbn:ANd9GcSiDUMiv5cHQcLINxLShuhoGdbudQBUmXgr1aSN8dW_pBjtMOWe"/>
          <p:cNvPicPr/>
          <p:nvPr/>
        </p:nvPicPr>
        <p:blipFill>
          <a:blip r:embed="rId1"/>
          <a:stretch/>
        </p:blipFill>
        <p:spPr>
          <a:xfrm>
            <a:off x="228600" y="1606680"/>
            <a:ext cx="79246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eaded by one ru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http://t0.gstatic.com/images?q=tbn:ANd9GcRuqqEst1uH5YnoNdu62rFcXGp-OzxSEGelZNn9J_DwmmDMuPdu"/>
          <p:cNvPicPr/>
          <p:nvPr/>
        </p:nvPicPr>
        <p:blipFill>
          <a:blip r:embed="rId1"/>
          <a:stretch/>
        </p:blipFill>
        <p:spPr>
          <a:xfrm>
            <a:off x="609480" y="1757520"/>
            <a:ext cx="71629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9T16:55:10Z</dcterms:modified>
  <cp:revision>94</cp:revision>
  <dc:subject/>
  <dc:title>Ancient Greece</dc:title>
</cp:coreProperties>
</file>